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EF9-E090-4495-9B1D-65BC77E1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B7B-4D21-48AE-AE69-E032EC1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D3B-D2BC-4C14-976B-CC1CD23D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AD2-A004-4DC7-A296-3C30A79C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B50-0180-41F8-9808-5B44DF5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146-9E5D-4485-8E60-C179D990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ABA-DFA7-4BE0-AA35-C8BC85E7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129-FADD-4990-BEA6-66A62ED9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F45-292F-4859-8981-F141AC5E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130-18F0-4953-BC7A-0FD7FE8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DE2-B474-48B7-9C7C-56E45699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227-0873-4634-AA76-87A7043F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3382-DD48-450B-9736-FC4FA94F0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6320" y="5714640"/>
            <a:ext cx="57150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upload.wikimedia.org/wikipedia/commons/thumb/5/58/Growth_of_Russia_1613-1914.png/1280px-Growth_of_Russia_1613-1914.png"/>
          <p:cNvPicPr/>
          <p:nvPr/>
        </p:nvPicPr>
        <p:blipFill>
          <a:blip r:embed="rId1"/>
          <a:stretch/>
        </p:blipFill>
        <p:spPr>
          <a:xfrm>
            <a:off x="114480" y="304920"/>
            <a:ext cx="89913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3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o-Japanese War 1904-19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760" y="10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hts danke Willy—Imperialism gon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ve sunk my Battleship!- Port Arthur—How do you spell lose?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 u s s I 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fic Fleet…then Bal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 Rescue- Witte best supporting role- save face- Treaty of Ports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2_5144_s"/>
          <p:cNvPicPr/>
          <p:nvPr/>
        </p:nvPicPr>
        <p:blipFill>
          <a:blip r:embed="rId1"/>
          <a:stretch/>
        </p:blipFill>
        <p:spPr>
          <a:xfrm>
            <a:off x="380880" y="4334040"/>
            <a:ext cx="393084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image?id=64880&amp;rendTypeId=4"/>
          <p:cNvPicPr/>
          <p:nvPr/>
        </p:nvPicPr>
        <p:blipFill>
          <a:blip r:embed="rId2"/>
          <a:stretch/>
        </p:blipFill>
        <p:spPr>
          <a:xfrm>
            <a:off x="5715000" y="4375080"/>
            <a:ext cx="3286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media.web.britannica.com/eb-media/17/84517-004-4DBBB30A.jpg"/>
          <p:cNvPicPr/>
          <p:nvPr/>
        </p:nvPicPr>
        <p:blipFill>
          <a:blip r:embed="rId2"/>
          <a:stretch/>
        </p:blipFill>
        <p:spPr>
          <a:xfrm>
            <a:off x="63360" y="-136440"/>
            <a:ext cx="3060720" cy="29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eacoastnh.com/navyyard/treaty/paper.jpeg"/>
          <p:cNvPicPr/>
          <p:nvPr/>
        </p:nvPicPr>
        <p:blipFill>
          <a:blip r:embed="rId3"/>
          <a:stretch/>
        </p:blipFill>
        <p:spPr>
          <a:xfrm>
            <a:off x="4648320" y="152280"/>
            <a:ext cx="4286160" cy="3181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fortunecity.com/olympia/ince/698/selornia/PoltavaSunk.jpg"/>
          <p:cNvPicPr/>
          <p:nvPr/>
        </p:nvPicPr>
        <p:blipFill>
          <a:blip r:embed="rId4"/>
          <a:stretch/>
        </p:blipFill>
        <p:spPr>
          <a:xfrm>
            <a:off x="1911240" y="3333600"/>
            <a:ext cx="48801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d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y 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mg0005"/>
          <p:cNvPicPr/>
          <p:nvPr/>
        </p:nvPicPr>
        <p:blipFill>
          <a:blip r:embed="rId1"/>
          <a:stretch/>
        </p:blipFill>
        <p:spPr>
          <a:xfrm>
            <a:off x="0" y="1676520"/>
            <a:ext cx="6019920" cy="4012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rr19"/>
          <p:cNvPicPr/>
          <p:nvPr/>
        </p:nvPicPr>
        <p:blipFill>
          <a:blip r:embed="rId2"/>
          <a:stretch/>
        </p:blipFill>
        <p:spPr>
          <a:xfrm>
            <a:off x="3162240" y="0"/>
            <a:ext cx="5715000" cy="3817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3368530"/>
          <p:cNvPicPr/>
          <p:nvPr/>
        </p:nvPicPr>
        <p:blipFill>
          <a:blip r:embed="rId3"/>
          <a:stretch/>
        </p:blipFill>
        <p:spPr>
          <a:xfrm>
            <a:off x="5715000" y="2514600"/>
            <a:ext cx="3303720" cy="4210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0" y="568944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Gapon—how could this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atriotism go so wro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aravich Ale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bump or bruise rupturing a tiny blood vessel beneath the skin could begin the slow seepage of blood in surrounding muscle and tissue. Instead of clotting…the blood continued to flow unchecked for hours…Eventually , when the skin was hard and tight, filled with blood like a balloon, pressure slowed the hemorrhage. Once although no pain..The Tsaravich almost died from a nosebleed.”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05-19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+ govt. workers killed by rioters/rad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?revolutionaries died—govt claims 60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ts, Baltic states, Poland, Finland, military, months of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te- advises Duma, Military advises D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holas gives in, but the riots don’t sto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tional Govern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a I, Duma II-&gt; Dum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te Fired-&gt;Stoly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642477"/>
          <p:cNvPicPr/>
          <p:nvPr/>
        </p:nvPicPr>
        <p:blipFill>
          <a:blip r:embed="rId1"/>
          <a:stretch/>
        </p:blipFill>
        <p:spPr>
          <a:xfrm>
            <a:off x="304920" y="3124080"/>
            <a:ext cx="5657760" cy="337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%7B243C216B-6624-42D1-8860-0E454FFCC122%7D"/>
          <p:cNvPicPr/>
          <p:nvPr/>
        </p:nvPicPr>
        <p:blipFill>
          <a:blip r:embed="rId2"/>
          <a:stretch/>
        </p:blipFill>
        <p:spPr>
          <a:xfrm>
            <a:off x="4943520" y="2438280"/>
            <a:ext cx="420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ly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w/in months bombed—31 die. Son and daughter injured—Stolypin works—600+ hanged throughout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-not rea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Reform for Peasants…end of the 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age?id=9236&amp;rendTypeId=4"/>
          <p:cNvPicPr/>
          <p:nvPr/>
        </p:nvPicPr>
        <p:blipFill>
          <a:blip r:embed="rId1"/>
          <a:stretch/>
        </p:blipFill>
        <p:spPr>
          <a:xfrm>
            <a:off x="155520" y="46080"/>
            <a:ext cx="2266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06-1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ing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ma—finally 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pu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Harvests!— Developing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investment, even Singer Sewing Machines! International Harvester Tru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8 Balkans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1 Stolypin assass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pu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4952520"/>
            <a:ext cx="5943600" cy="18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“staret”, disheveled, unkept, Peasant, incredible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2x Alexis at death’s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ac.0873.edgecastcdn.net/800873/blog/wp-content/uploads/Rasputin-closeup-292x300.gif"/>
          <p:cNvPicPr/>
          <p:nvPr/>
        </p:nvPicPr>
        <p:blipFill>
          <a:blip r:embed="rId1"/>
          <a:stretch/>
        </p:blipFill>
        <p:spPr>
          <a:xfrm>
            <a:off x="93600" y="0"/>
            <a:ext cx="278136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altrapoint.nextcity.info/wp-content/uploads/2011/08/Rasputin-06.jpg"/>
          <p:cNvPicPr/>
          <p:nvPr/>
        </p:nvPicPr>
        <p:blipFill>
          <a:blip r:embed="rId2"/>
          <a:stretch/>
        </p:blipFill>
        <p:spPr>
          <a:xfrm>
            <a:off x="3294000" y="0"/>
            <a:ext cx="5715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12-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a and Ministers working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s of Alexandra re: Rasputin becom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strong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kan crisis g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manov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7008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Romanov-&gt;rose to power 1613, after Ivan the Terrible and subsequent “Time of Trou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the Great-&gt;Late 17C -&gt;westernized, capital -&gt;St. Petersburg-&gt;shaved the beards, aristocracy-&gt;military caste, controlled the church (Orthod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erine the Great-&gt;German Princess-&gt;killed her husband?-&gt;Enlightened Despot?-&gt;Partition of Poland-&gt;Potemkin Vill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www.freevectorartwork.org/images/russian-eagle-symbol-free-vector-artwork-2984.jpg"/>
          <p:cNvPicPr/>
          <p:nvPr/>
        </p:nvPicPr>
        <p:blipFill>
          <a:blip r:embed="rId1"/>
          <a:stretch/>
        </p:blipFill>
        <p:spPr>
          <a:xfrm>
            <a:off x="7848720" y="0"/>
            <a:ext cx="1293840" cy="141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http://www.freevectorartwork.org/images/russian-eagle-symbol-free-vector-artwork-2984.jpg"/>
          <p:cNvPicPr/>
          <p:nvPr/>
        </p:nvPicPr>
        <p:blipFill>
          <a:blip r:embed="rId2"/>
          <a:stretch/>
        </p:blipFill>
        <p:spPr>
          <a:xfrm>
            <a:off x="9360" y="46080"/>
            <a:ext cx="1057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2625840"/>
            <a:ext cx="830592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born? German/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of, Prim, Victorian- Grandmama helped raise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d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disli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farm3.staticflickr.com/2423/3700420846_326abb7342.jpg"/>
          <p:cNvPicPr/>
          <p:nvPr/>
        </p:nvPicPr>
        <p:blipFill>
          <a:blip r:embed="rId1"/>
          <a:stretch/>
        </p:blipFill>
        <p:spPr>
          <a:xfrm>
            <a:off x="152280" y="-22320"/>
            <a:ext cx="20574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ov family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ed? Isola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is last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Russiafam"/>
          <p:cNvPicPr/>
          <p:nvPr/>
        </p:nvPicPr>
        <p:blipFill>
          <a:blip r:embed="rId1"/>
          <a:stretch/>
        </p:blipFill>
        <p:spPr>
          <a:xfrm>
            <a:off x="4648320" y="2209680"/>
            <a:ext cx="38192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Roma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I 1801-18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therine’s Grandson, killed his father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w/Napoleon after the Battle of Troppau, defeated him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Holy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rist Revolt- upon death Alexander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officers influenced by French Revolution-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holas I 1825-1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 of Alexander (other brother, Constantine Duke of Wars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sive, Subdues Polish Rebellion 1831, helps Franz Joseph in 1848 defeat Hungarians (Magyars)- Increased Secret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mean War- 1853-18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freevectorartwork.org/images/russian-eagle-symbol-free-vector-artwork-2984.jpg"/>
          <p:cNvPicPr/>
          <p:nvPr/>
        </p:nvPicPr>
        <p:blipFill>
          <a:blip r:embed="rId1"/>
          <a:stretch/>
        </p:blipFill>
        <p:spPr>
          <a:xfrm>
            <a:off x="7848720" y="0"/>
            <a:ext cx="129384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freevectorartwork.org/images/russian-eagle-symbol-free-vector-artwork-2984.jpg"/>
          <p:cNvPicPr/>
          <p:nvPr/>
        </p:nvPicPr>
        <p:blipFill>
          <a:blip r:embed="rId2"/>
          <a:stretch/>
        </p:blipFill>
        <p:spPr>
          <a:xfrm>
            <a:off x="0" y="73080"/>
            <a:ext cx="1293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II (1855-18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ncipated Se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ment of Zemst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Emperors Le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o-Turk war 1878- Failed Treaty San Stefano-&gt; Congress of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assinated-&gt;Church of the Bloody S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iliated he died at the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Life 19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les- Bakunin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ect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kin- Boris Gudo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toyevsky- Brother’s Karamas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stoy- War and 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khov- The Seag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haikov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Revolut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ll of the People, Land and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III (1881-18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archy, Church,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r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power-&gt;Took power away from Zemst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led Alexander Ulyanov-&gt;member of the Will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surance treaty w/Germany- Beginnings Entente w/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- Serge Wi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lex3russia1845"/>
          <p:cNvPicPr/>
          <p:nvPr/>
        </p:nvPicPr>
        <p:blipFill>
          <a:blip r:embed="rId1"/>
          <a:stretch/>
        </p:blipFill>
        <p:spPr>
          <a:xfrm>
            <a:off x="6781680" y="7920"/>
            <a:ext cx="23623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89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holas II 1894-19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67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udite, Immature? Easily manipu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fe Alexandra (German Princess) granddaughter of Queen Vic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phil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lexi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te (comparable to who in histor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mage?id=28276&amp;rendTypeId=4"/>
          <p:cNvPicPr/>
          <p:nvPr/>
        </p:nvPicPr>
        <p:blipFill>
          <a:blip r:embed="rId1"/>
          <a:stretch/>
        </p:blipFill>
        <p:spPr>
          <a:xfrm>
            <a:off x="6356520" y="0"/>
            <a:ext cx="2787480" cy="352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pix.avaxnews.com/avaxnews/99/46/00004699_medium.jpeg"/>
          <p:cNvPicPr/>
          <p:nvPr/>
        </p:nvPicPr>
        <p:blipFill>
          <a:blip r:embed="rId2"/>
          <a:stretch/>
        </p:blipFill>
        <p:spPr>
          <a:xfrm>
            <a:off x="6356520" y="3733920"/>
            <a:ext cx="18428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good to be T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embajada-alemana-costarica.org/wp-content/uploads/2010/11/d5.jpg"/>
          <p:cNvPicPr/>
          <p:nvPr/>
        </p:nvPicPr>
        <p:blipFill>
          <a:blip r:embed="rId1"/>
          <a:stretch/>
        </p:blipFill>
        <p:spPr>
          <a:xfrm>
            <a:off x="914400" y="838080"/>
            <a:ext cx="7591320" cy="537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a1.ec-images.myspacecdn.com/images02/103/e2ac9e149d824041bb640bc98257fa8d/l.jpg"/>
          <p:cNvPicPr/>
          <p:nvPr/>
        </p:nvPicPr>
        <p:blipFill>
          <a:blip r:embed="rId2"/>
          <a:stretch/>
        </p:blipFill>
        <p:spPr>
          <a:xfrm>
            <a:off x="0" y="4022640"/>
            <a:ext cx="3886200" cy="255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www.colourbox.com/preview/2962864-263600-livadia-palace-summer-retreat-of-the-last-russian-tsar-nicholas-ii-crimea-ukrainebuilt-in-1911-by-architect-np.jpg"/>
          <p:cNvPicPr/>
          <p:nvPr/>
        </p:nvPicPr>
        <p:blipFill>
          <a:blip r:embed="rId3"/>
          <a:stretch/>
        </p:blipFill>
        <p:spPr>
          <a:xfrm>
            <a:off x="5562720" y="187200"/>
            <a:ext cx="36050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4784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i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9245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06:00Z</dcterms:created>
  <dc:creator>Darien Public Schools</dc:creator>
  <dc:description/>
  <dc:language>en-US</dc:language>
  <cp:lastModifiedBy>Local User</cp:lastModifiedBy>
  <dcterms:modified xsi:type="dcterms:W3CDTF">2012-03-05T14:47:01Z</dcterms:modified>
  <cp:revision>16</cp:revision>
  <dc:subject/>
  <dc:title>Russia</dc:title>
</cp:coreProperties>
</file>